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F26E-E195-4E6A-A37B-09662D081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eño del sistema de información debe ser lo mas fácil posi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ed at TB treatment facilities and microscopy uni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or quarterly reporting forms sent to Basic Management Unit (BMU) where they are aggregated and then sent to the higher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strengths/limitations of speci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useful, but also very costly, logistically difficult to implement.  Often require population based sample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berculina es dificil cuando hay tasa alta de BC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que e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nción primaria de sistemas de salud es para ofrecer datos que puedan mejorar la toma de decisiones cuando se ofrecen  los servicios de salu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asegurar que los datos sean de alta calidad, el sistema de salud esta tratando de garantizar que la toma de decisiones se haga de manera  informada y completa sin ses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2F0BE5-A486-41BC-B343-52A627C62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5CA99C-9F7B-46E3-BB06-CE73A1899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DC647A-2EEF-4540-8AF2-F3B93DC10C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FCD4DA-5F26-4319-9EE5-CE3B5BDFB2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A6FB9-0AFA-4D70-87BA-EE21E2995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F8E57-FDF7-4881-853E-EBBE21DEA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C25FA-500E-43F3-BB47-8E0474DD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F5FCF-6F90-4514-8501-1117374D0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7E672-1D4D-40B9-B66A-00F76C953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45D70-ECD8-4A67-ABF0-5C6CAC1DB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068E9-4A4D-4A15-B40F-6D734E80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CCB6A6-65C9-443F-A665-0C3606486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03CDA-ECFD-4E79-A222-4E38F5B6E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703ED-04A4-46A9-A2B2-EE4A258FF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99F73-EBF4-40C6-89DE-6033BC605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58269-E7B3-4474-A8EC-D7D38E50E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10C77-A373-43D2-B0E8-29B1135B4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52C35-03D3-408D-8691-53728B84D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05FF7E-5DED-45C6-8E1B-D31A6F5F7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09B26-AAAE-4DC2-8CD9-37E490F40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E02DB3-E2B8-45DC-9643-266F911D3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E5165-E461-4CF7-8DB5-051D005AB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18173-A722-4E93-9984-0A9266036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9A2DC-C913-4A18-A5A6-E208F39D43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6D34-F444-4F03-BE51-F28C8418E4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9C88-9B50-4B56-BB36-09A50D671E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Arial"/>
              </a:rPr>
              <a:t>Fuentes de Datos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ándares para datos de alta calidad  </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Validez</a:t>
            </a:r>
            <a:r>
              <a:rPr b="0" lang="es-ES" sz="2400" spc="-1" strike="noStrike">
                <a:solidFill>
                  <a:srgbClr val="000000"/>
                </a:solidFill>
                <a:latin typeface="Arial"/>
              </a:rPr>
              <a:t>: Los datos miden de manera clara y directa lo que intentaban medir inicialme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tegridad</a:t>
            </a:r>
            <a:r>
              <a:rPr b="0" lang="es-ES" sz="2400" spc="-1" strike="noStrike">
                <a:solidFill>
                  <a:srgbClr val="000000"/>
                </a:solidFill>
                <a:latin typeface="Arial"/>
              </a:rPr>
              <a:t>: Existen mecanismos para que se evite la manipulación intencional de los dato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Precisión</a:t>
            </a:r>
            <a:r>
              <a:rPr b="0" lang="es-ES" sz="2400" spc="-1" strike="noStrike">
                <a:solidFill>
                  <a:srgbClr val="000000"/>
                </a:solidFill>
                <a:latin typeface="Arial"/>
              </a:rPr>
              <a:t>: Tienen los datos el nivel apropiado de detall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Fiabilidad: </a:t>
            </a:r>
            <a:r>
              <a:rPr b="0" lang="es-ES" sz="2400" spc="-1" strike="noStrike">
                <a:solidFill>
                  <a:srgbClr val="000000"/>
                </a:solidFill>
                <a:latin typeface="Arial"/>
              </a:rPr>
              <a:t>Se</a:t>
            </a:r>
            <a:r>
              <a:rPr b="0" lang="es-ES" sz="2400" spc="-1" strike="noStrike">
                <a:solidFill>
                  <a:srgbClr val="ff0000"/>
                </a:solidFill>
                <a:latin typeface="Arial"/>
              </a:rPr>
              <a:t> </a:t>
            </a:r>
            <a:r>
              <a:rPr b="0" lang="es-ES" sz="2400" spc="-1" strike="noStrike">
                <a:solidFill>
                  <a:srgbClr val="000000"/>
                </a:solidFill>
                <a:latin typeface="Arial"/>
              </a:rPr>
              <a:t>llegaría a los mismos hallazgos si se repitiera el análisis de los datos recolectados y analizados?</a:t>
            </a:r>
            <a:r>
              <a:rPr b="0" lang="es-E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Puntualidad: </a:t>
            </a:r>
            <a:r>
              <a:rPr b="0" lang="es-ES" sz="2400" spc="-1" strike="noStrike">
                <a:solidFill>
                  <a:srgbClr val="000000"/>
                </a:solidFill>
                <a:latin typeface="Arial"/>
              </a:rPr>
              <a:t>Están los datos disponibles cuando se necesitan para tomar decisiones informa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mpedimentos de datos de alta calidad  </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strumentos y procedimientos para la   recolección de datos no apropiado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lección y Reporte inadecuado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rrores en el procesamiento de datos (edición, codificación, alimentación de datos, fabula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e se puede hacer para mejorar y asegurar que los datos sean de alta calidad?  </a:t>
            </a:r>
            <a:endParaRPr b="0" lang="en-US" sz="4000" spc="-1" strike="noStrike">
              <a:solidFill>
                <a:srgbClr val="000000"/>
              </a:solidFill>
              <a:latin typeface="Arial"/>
            </a:endParaRPr>
          </a:p>
        </p:txBody>
      </p:sp>
      <p:sp>
        <p:nvSpPr>
          <p:cNvPr id="135"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implicidad del sistema de informa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volucrar a  los usuarios en el diseño del sistema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ndarizar las definiciones y los procedimiento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ar ‘Pre- pruebas’ de instrumentos de recolecion para asegurar que sean utiles  y faciles de usa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egurar que los datos recolectados sean útil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visión regular con retroalimentación por parte del los supervisore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ear procedimientos de chequeo efectivo (tales como chequeo cruzado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pacitación (instrumentos de recolección de datos, procesamiento de datos, análisis y la toma de decisiones sobre la evidenc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s Fuentes de Datos</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olecte datos de manera rutina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eso de Monitoreo y Evalu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ción y revisión de progra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orte Global de TB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uestas Espe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lección Rutinaria</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istro de TB</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ta de Tratamiento para la TB</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istro de Laborator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Reporte Rutinario</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istro de TB a nivel distrital  </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orte trimestral de casos nuevos de TB y recaídas</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orte trimestral del resultado de tratamiento en pacientes con TB pulmonar registrados entre los 12 y 15 meses previ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ceso de Monitoreo y Evaluación</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de la recolección y repor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perv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Reporte Mundial de TB</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atos recogidos de los gerentes de PNT y  analizados por el Proyecto Mundial de Monitoreo y Vigilancia de TB de la OMS con colaboración cercana del grupo de trabajo de expansión del “STOP TB Partnership” del TAES, para registrar el progreso en el control de la TB y la implementación de la estrategia TAES para cada paí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indicadores usados a este nivel mundial son fundamentales y  críticos para el entendimiento del progreso hecho hacia el control de la TB a nivel nacional y local y deben ser usados para el M&amp;E y la resolución de problemas a todos los nive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 de estudios especiales </a:t>
            </a:r>
            <a:br>
              <a:rPr sz="4000"/>
            </a:b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de Prevalencia de TB</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basadas en serologí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basadas en las poblacion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de registros vit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de la tuberculin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resistencia al medicament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estas de los centros de salu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entes de </a:t>
            </a:r>
            <a:r>
              <a:rPr b="0" lang="es-ES" sz="4400" spc="-1" strike="noStrike">
                <a:solidFill>
                  <a:srgbClr val="000000"/>
                </a:solidFill>
                <a:latin typeface="Arial"/>
              </a:rPr>
              <a:t>datos</a:t>
            </a:r>
            <a:r>
              <a:rPr b="0" lang="en-US" sz="4400" spc="-1" strike="noStrike">
                <a:solidFill>
                  <a:srgbClr val="000000"/>
                </a:solidFill>
                <a:latin typeface="Arial"/>
              </a:rPr>
              <a:t> y la </a:t>
            </a:r>
            <a:r>
              <a:rPr b="0" lang="es-ES" sz="4400" spc="-1" strike="noStrike">
                <a:solidFill>
                  <a:srgbClr val="000000"/>
                </a:solidFill>
                <a:latin typeface="Arial"/>
              </a:rPr>
              <a:t>calidad</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 </a:t>
            </a:r>
            <a:r>
              <a:rPr b="0" lang="es-ES" sz="3200" spc="-1" strike="noStrike">
                <a:solidFill>
                  <a:srgbClr val="000000"/>
                </a:solidFill>
                <a:latin typeface="Arial"/>
              </a:rPr>
              <a:t>fuente de datos es útil solamente cuando la calidad de la información recolectada y registrada es muy bue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 calidad</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alidad o exactitud de los datos es el nivel en que los datos o las estadísticas miden lo que quieren medir cuando el sistema de recolección fue diseñado.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ippeveld, Sauerborn, and Bodart, WHO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ssica Posner</cp:lastModifiedBy>
  <dcterms:modified xsi:type="dcterms:W3CDTF">2005-03-23T16:24:5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32180830</vt:r8>
  </property>
  <property fmtid="{D5CDD505-2E9C-101B-9397-08002B2CF9AE}" pid="3" name="_AuthorEmail">
    <vt:lpwstr>jposner@tulane.edu</vt:lpwstr>
  </property>
  <property fmtid="{D5CDD505-2E9C-101B-9397-08002B2CF9AE}" pid="4" name="_AuthorEmailDisplayName">
    <vt:lpwstr>Jessica Posner</vt:lpwstr>
  </property>
  <property fmtid="{D5CDD505-2E9C-101B-9397-08002B2CF9AE}" pid="5" name="_EmailSubject">
    <vt:lpwstr>MEASURE TB Workshop</vt:lpwstr>
  </property>
</Properties>
</file>